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0370-E2AD-4BB8-9369-172B8D337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6BE4-E097-488F-A3E2-64166EF62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1E60-2A0E-430D-B1B6-CAEC44B39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52BF-0FDB-403A-9E3B-8AB392D580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BE9E-0EEC-417F-9D0A-FC15E3D21B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5B22-EDE0-432B-8AF4-1D8ECA160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2375-DCB3-4A32-9025-1BA0F4577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A137-2CA9-4A5D-AB5F-9D4CCCB83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A25F-E343-4383-B5A7-7BB9371D4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5C87-7D30-4379-8AEC-71D56C482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C925-AE48-4A08-BA7A-3BC64C31F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A72C-A569-484C-92C3-80D3C1825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F5F0-4A8E-4A5D-834D-BF58108A65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bs.org/wgbh/misunderstoodminds/experiences/mathexp2a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0A13-B919-41F6-A303-7C49095E9F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ample 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95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one of the following les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9 Applied -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0 Applied - Trigon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Workplace -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Functions and Applications -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2 Advanced Functions - Ration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248E-532B-41AB-B380-AA92B4FEEB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nah Zike’s Teaching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ematics with Foldab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C1F6-F51D-4CD8-A99A-7442299A6A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533520" y="20178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dables result in student-made study guides that are compiled as students listen for main ideas, read for main ideas, and work their way through new concepts and proced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4779-3C98-4EC7-AE7B-65B14DE794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304920" y="160020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template from the samples of “foldables”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“foldable” related to your TIPS lesson to support students with learning dis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40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reate a “Foldable”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060F-6CFE-4125-B105-4FD5D42B52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457200" y="76320"/>
            <a:ext cx="8156520" cy="53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1A9C-40A6-40A2-AF68-4774E7B23F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144440" y="304920"/>
            <a:ext cx="693288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692D-BA85-4626-B3D8-E86A75CB08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7960" cy="403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301788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ACF4-38A6-46C6-9873-DBD740B451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6553080" y="76320"/>
            <a:ext cx="152424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ree-Tab Boo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3DCA-8399-4375-AAB0-109521A1AC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57200" y="609480"/>
            <a:ext cx="51814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a sheet of paper like a hot d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ith the paper horizontal, and the fold of the hot dog up, fold the right side toward the center, trying to cover one half of th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the left side over the right side to make a book with three fo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pen the folded book. Cut up the two valleys on the top side only. This will form three ta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this book for data occurring in th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116760" y="533520"/>
            <a:ext cx="1655640" cy="76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7162920" y="1371600"/>
            <a:ext cx="1447560" cy="114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6324480" y="2209680"/>
            <a:ext cx="838440" cy="1303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6515280" y="4038480"/>
            <a:ext cx="1866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C031-0AC9-4AB4-9833-B20CE333BE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334800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69900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2133720" y="4495680"/>
            <a:ext cx="4114800" cy="1768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6553080" y="2286000"/>
            <a:ext cx="1828800" cy="3448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5"/>
          <a:stretch/>
        </p:blipFill>
        <p:spPr>
          <a:xfrm>
            <a:off x="990720" y="2362320"/>
            <a:ext cx="42465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E9A7-AE5C-4ADC-94FE-20C320C6F1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141120" y="380880"/>
            <a:ext cx="8622000" cy="396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5759280" y="3219480"/>
            <a:ext cx="285120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ore Simula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038C-8DCE-46AE-9BA0-38A469514F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E37C-2889-4152-88AA-664AF63478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533520" y="129528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scalcul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erm referring to a wide range of life-long learning disabilities involving math. There is no one single form of this math disability, but usually it incorporates one or more of following areas of difficul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Spatial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Memory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39EA-2D60-4D62-A443-C024D515CE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867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3752-BC54-491A-A141-53FD75EC99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5279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F514-FA16-4D35-89EB-DED41EB301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581280" cy="253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800600" y="762120"/>
            <a:ext cx="3930480" cy="1981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1189080" y="3429000"/>
            <a:ext cx="437364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6095880" y="2895480"/>
            <a:ext cx="160020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1D43-AC81-4189-BB91-6BEF955DB8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622760" y="2819520"/>
            <a:ext cx="4368960" cy="327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rcRect l="0" t="22874" r="3443" b="21118"/>
          <a:stretch/>
        </p:blipFill>
        <p:spPr>
          <a:xfrm>
            <a:off x="533520" y="380880"/>
            <a:ext cx="4728960" cy="2057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401796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E536-4949-4E94-AA3A-CC623F1B16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274680" y="314280"/>
            <a:ext cx="7954920" cy="501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5570640" y="5562720"/>
            <a:ext cx="24303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108F-1051-43B8-B172-48219DD5AF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1"/>
          <a:stretch/>
        </p:blipFill>
        <p:spPr>
          <a:xfrm>
            <a:off x="560520" y="-495360"/>
            <a:ext cx="8126280" cy="59054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5105520" y="-457200"/>
            <a:ext cx="2971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DDED-4A66-400D-A69A-89C385C9F0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872784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6985080" y="4495680"/>
            <a:ext cx="8715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E5C9-6137-4F3A-857B-85B89302B5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32560" cy="51814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5410080" y="152280"/>
            <a:ext cx="1828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C8E4-276E-4C55-A1FB-65F968FD43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457200" y="1349280"/>
            <a:ext cx="5029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ew minutes to look each other’s fold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foldables help students with learning disa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2895480" y="480060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ttp://mathnmind.com/PDF%20Files/Pre-Algebra/dzf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523880" y="51814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speakmath.wordpress.com/2012/03/07/all-about-slope-foldable/#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tput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70A5-AB95-4FD8-82A2-788261BC9F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861160" cy="2666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52280" y="2666880"/>
            <a:ext cx="279396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tput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9075-F082-4215-B05D-B97903773E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86116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sual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2A9D-1C7A-4087-B9DA-8EC5EA1306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914400"/>
            <a:ext cx="75182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mall Group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1142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students with learning disabilities in your school (i.e. in which course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ways your math department/school/Board currently supports students with learning disabilities that you think ar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62B3-5C61-4E6E-8A73-C8AEB93043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.A.T. City Worksho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3A0D-8468-4608-9D29-65467FC451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17204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4300560" cy="3048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304920" y="41911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these situations relate to your math cla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mall Group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09120" y="13716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specific student you have encountered who has a learning disability and finds learning particularly challenging.  Which of the 5 cognitive processes is low for this student?  How did that manifest itself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FA7C-AE8F-4406-8F0B-2F493BDF71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8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1000"/>
          </a:bodyPr>
          <a:p>
            <a:pPr marL="348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TIPS lesson from the samples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lesson to familiarize yourself with the content and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it again with the 5 cognitive processes in mind and suggest modifications to better meet needs of students with learning dis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9129-5815-4964-856D-0510DB41D3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ren</cp:lastModifiedBy>
  <dcterms:modified xsi:type="dcterms:W3CDTF">2012-07-19T07:18:35Z</dcterms:modified>
  <cp:revision>37</cp:revision>
  <dc:subject/>
  <dc:title>&lt;Title&gt;</dc:title>
</cp:coreProperties>
</file>